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FEC9-1129-42AE-AD18-16997809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7CE9-4D98-47F7-972D-FB81C3DA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220C-B8CA-424B-B5DA-48FFDA6D1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32E6-FFEC-435C-995E-3AFC2305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87C4-C251-43E6-92E0-5D648AD1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C373-9584-46CA-BB09-5B062C10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E3B9-ABBE-4C06-88E4-0F46FC1C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5C23-DCDA-43F7-A49B-6042835C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3AE7-A3F7-43C4-88FF-C4BCE17C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F8F8-CC91-4B79-BF7B-6D4547AD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15E8-F5B7-4395-B3E4-AB7420DC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FF55-7723-464D-99CE-671DB753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C2A1-DDA6-4D60-9F06-71D5DCF85F3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19 Tej tvojej svätej krvi prú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j tvojej svätej krvi prúd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 mojej spásy zdro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v tebe, Pane spočinú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navždy byť len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ôj život v tebe pramen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 teba spásu večnú m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ín hriechu navždy zbavený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d sa ti, Pane odovz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tvoja láska odvek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 tešiť v úzko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hriechu zbaví človek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á balzam mi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ôj život v tebe pramen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 teba spásu večnú m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ín hriechu navždy zbavený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d sa ti, Pane odovz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už tu cítim tvoju moc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ú tvoju dobrot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premôže raz hrobu noc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zkriesi k život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ôj život v tebe pramen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 teba spásu večnú m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ín hriechu navždy zbavený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d sa ti, Pane odovz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v svetle tvojom vykroči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tebou v istot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smieť  ťa budem velebi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o večnom živo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ôj život v tebe pramen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 teba spásu večnú m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ín hriechu navždy zbavený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d sa ti, Pane odovzdá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3T19:40:40Z</dcterms:modified>
  <cp:revision>22</cp:revision>
  <dc:subject/>
  <dc:title>Je veľký náš Pán, on slávy je Kráľ Nech do všetkých strán  spev vrúcnych znie chvál.</dc:title>
</cp:coreProperties>
</file>